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140B-7291-4AF7-B027-B754A8FF4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3A87-72F7-49A5-BB75-6F3085EFA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956B-34A0-48DE-8FC4-7056FE685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26B19-BB08-4FE7-802D-A4C719929E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CE50-278A-4F90-88C6-2DA094EFC1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BA84-ECCD-4986-9242-D935B1C76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2811-AD16-4BE1-A393-A47150BEC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B060-C7EE-4090-A81D-D1DFAB82D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5A0B-E7E0-479B-831B-113FE838A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88A2-8738-455F-BC35-0FDAF3CD2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6640-EFA9-4F9E-A635-806727DCA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A6EE-51B7-4714-A1AC-B7EF2D9CD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A5B4-97D9-4228-B283-A3B506C832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youtu.be/PRIlnUAKwDY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B5F6-1A38-4124-AA34-5C33F0DA09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7720" y="27428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Algebraic Thinking -Aug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s Work wit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notice about the student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providing feedback what was discussed at your 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you decide on the criteria you were going to use to give feed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ive me an example of feedback provided that you feel is very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did you already know about the math or about the feedback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hadn’t you thought o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are your next ste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st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are the similarities/differences regarding feedback in the moment vs over ti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s will focus on understanding the additive, multiplicative and generalization concepts in A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explore and consider guidelines when providing effective feedback for the purpose of moving students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understand the relationship between learning goals and effective feed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565A-6CBA-4A3D-A67D-A813D4D6F0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B666-CF32-45BC-8DC8-3B92EF3EF8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iving Effective Feedback 3 –Unhelpful and Helpful feedba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youtu.be/PRIlnUAKw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ole Group Discu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nk back in life when you were given feedba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did it look like? Sound like? Feel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as it effective or not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 you remember what type of impact it had on you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d it help you move forward in your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y Feedback Practic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41241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ive One Take O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a feedback strategy that you used and found effe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edback strategy you like and add it to your reper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nother partn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eedback Researc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 of the Curve by Anne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Give Effective Feedback to your Students by Susan M. Brook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: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erimet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s is a 3 x 3 grid of squares with only the outside edge sha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you had a 5 x 5 grid of squares where only the outside edge of squares is shaded, how many squares would be sha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you had a 17 x 17 grid of squares with only the outside edge of squares shaded, how many squares would be sha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you had a grid of 100 squares, how many would be sha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4648320" y="1981080"/>
            <a:ext cx="380880" cy="381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4648320" y="2362320"/>
            <a:ext cx="38088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4267080" y="2362320"/>
            <a:ext cx="38124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886200" y="2362320"/>
            <a:ext cx="38088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886200" y="1981080"/>
            <a:ext cx="380880" cy="381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886200" y="1600200"/>
            <a:ext cx="38088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4267080" y="1600200"/>
            <a:ext cx="38124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4648320" y="1600200"/>
            <a:ext cx="38088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different samples and compare students’ algebraic thin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Image Builder</cp:lastModifiedBy>
  <dcterms:modified xsi:type="dcterms:W3CDTF">2011-08-16T17:02:32Z</dcterms:modified>
  <cp:revision>8</cp:revision>
  <dc:subject/>
  <dc:title>&lt;Title&gt;</dc:title>
</cp:coreProperties>
</file>